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A8C-C83C-48EE-BE92-B8EC05C7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1CA-1223-49DF-8988-EF52AFF6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538-517A-4D6A-AFC8-0BF11E2B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1E4-50A9-4695-8559-51FFB1E1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218-8606-46C7-A310-FACE876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2AE-8AE8-429C-905F-6A550A47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841-6DDC-43C8-AF4B-1FFD8AF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837-2D19-4070-9C00-07D30BC4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03A-394D-4FAB-ADEF-D863DB87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5C5-26C4-4BAE-86BD-8ECC410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6EF-30B3-45BE-B3D3-48A03D21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CF3-5F5C-48FF-9B32-214836A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B122-7A1F-42FB-B60F-1B9B3B09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hyperlink" Target="http://www.google.com/imgres?imgurl=http://creativeroots.org/wp-content/uploads/2010/04/50_us_dollar.jpg&amp;imgrefurl=http://creativeroots.org/%3Fp%3D7850&amp;usg=__vmljwOjHz9O8LQIysNKfUEW0mPU=&amp;h=167&amp;w=400&amp;sz=23&amp;hl=en&amp;start=14&amp;zoom=1&amp;um=1&amp;itbs=1&amp;tbnid=pW70aJG5NTb0iM:&amp;tbnh=52&amp;tbnw=124&amp;prev=/search%3Fq%3Dusa%2Bdollar%26um%3D1%26hl%3Den%26biw%3D1004%26bih%3D612%26tbm%3Disch&amp;ei=bvzkTcvTEc_dgQf4x_DKBg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www.google.com/imgres?imgurl=http://www.knowledgerush.com/wiki_image/8/88/US20-back.jpg&amp;imgrefurl=http://www.knowledgerush.com/kr/encyclopedia/USA_Dollar/&amp;usg=__vwWD6-8rP0FCfLqN7PelrDmaXqM=&amp;h=269&amp;w=626&amp;sz=101&amp;hl=en&amp;start=15&amp;zoom=1&amp;um=1&amp;itbs=1&amp;tbnid=Z0gz7Oe89V9HRM:&amp;tbnh=58&amp;tbnw=136&amp;prev=/search%3Fq%3Dusa%2Bdollar%26um%3D1%26hl%3Den%26biw%3D1004%26bih%3D612%26tbm%3Disch&amp;ei=bvzkTcvTEc_dgQf4x_DKBg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D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487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9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121932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71600" y="388620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243828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05640" y="0"/>
            <a:ext cx="1638360" cy="219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715080" y="2133720"/>
            <a:ext cx="2428920" cy="39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228600"/>
            <a:ext cx="281952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724280" y="1752480"/>
            <a:ext cx="221004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4724280" y="2819520"/>
            <a:ext cx="221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400" y="1600200"/>
            <a:ext cx="3921120" cy="525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518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2:47:16Z</dcterms:created>
  <dc:creator>Administrator</dc:creator>
  <dc:description/>
  <dc:language>en-US</dc:language>
  <cp:lastModifiedBy>Administrator</cp:lastModifiedBy>
  <dcterms:modified xsi:type="dcterms:W3CDTF">2011-05-31T15:17:09Z</dcterms:modified>
  <cp:revision>3</cp:revision>
  <dc:subject/>
  <dc:title>American Dream</dc:title>
</cp:coreProperties>
</file>